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  <p:custShowLst>
    <p:custShow name="Chapter" id="0">
      <p:sldLst>
        <p:sld r:id="rId15"/>
        <p:sld r:id="rId16"/>
        <p:sld r:id="rId17"/>
        <p:sld r:id="rId18"/>
        <p:sld r:id="rId21"/>
        <p:sld r:id="rId22"/>
        <p:sld r:id="rId26"/>
        <p:sld r:id="rId14"/>
      </p:sldLst>
    </p:custShow>
    <p:custShow name="STP" id="1">
      <p:sldLst>
        <p:sld r:id="rId19"/>
        <p:sld r:id="rId20"/>
        <p:sld r:id="rId23"/>
        <p:sld r:id="rId25"/>
        <p:sld r:id="rId24"/>
      </p:sldLst>
    </p:custShow>
    <p:custShow name="Transparencies" id="2">
      <p:sldLst>
        <p:sld r:id="rId26"/>
      </p:sldLst>
    </p:custShow>
    <p:custShow name="VIs Con" id="3">
      <p:sldLst>
        <p:sld r:id="rId14"/>
      </p:sldLst>
    </p:custShow>
    <p:custShow name="Section 2" id="4">
      <p:sldLst>
        <p:sld r:id="rId15"/>
        <p:sld r:id="rId16"/>
        <p:sld r:id="rId17"/>
        <p:sld r:id="rId18"/>
        <p:sld r:id="rId21"/>
        <p:sld r:id="rId22"/>
        <p:sld r:id="rId26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io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Carbon Compound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Molecules of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pid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ucleic Acid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711360" y="1828800"/>
            <a:ext cx="259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ino Aci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ade of three groups, carboxyl, amine, and R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3309840" y="731880"/>
            <a:ext cx="583416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711360" y="1676520"/>
            <a:ext cx="3403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mino acids are joined by a special covalent bond between N and C called a ___________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form a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dipept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2"/>
          <a:stretch/>
        </p:blipFill>
        <p:spPr>
          <a:xfrm>
            <a:off x="4114800" y="1376280"/>
            <a:ext cx="4935600" cy="45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711360" y="1676520"/>
            <a:ext cx="8127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y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ng chain of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901548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 of Protei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9" descr="a24"/>
          <p:cNvPicPr/>
          <p:nvPr/>
        </p:nvPicPr>
        <p:blipFill>
          <a:blip r:embed="rId2"/>
          <a:stretch/>
        </p:blipFill>
        <p:spPr>
          <a:xfrm>
            <a:off x="2430360" y="1663560"/>
            <a:ext cx="4579920" cy="43419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14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5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6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bohydr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organic compounds composed of _______, ______, and ________in a ratio of about one carbon to two hydrogen atoms to one oxyge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hydrates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urce of energy, store energ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re used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uctural materia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nosacchari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hydr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made up of monomers called _________________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(one s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unnumbered_02_01"/>
          <p:cNvPicPr/>
          <p:nvPr/>
        </p:nvPicPr>
        <p:blipFill>
          <a:blip r:embed="rId2"/>
          <a:stretch/>
        </p:blipFill>
        <p:spPr>
          <a:xfrm>
            <a:off x="1371600" y="3505320"/>
            <a:ext cx="60958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acchari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d Poly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monosaccharides join (through condensation reaction) to form a double sugar called 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accharid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" descr=""/>
          <p:cNvPicPr/>
          <p:nvPr/>
        </p:nvPicPr>
        <p:blipFill>
          <a:blip r:embed="rId2"/>
          <a:stretch/>
        </p:blipFill>
        <p:spPr>
          <a:xfrm>
            <a:off x="0" y="3521160"/>
            <a:ext cx="5165640" cy="3321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3"/>
          <a:stretch/>
        </p:blipFill>
        <p:spPr>
          <a:xfrm>
            <a:off x="5749920" y="3962520"/>
            <a:ext cx="273384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acchari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d Poly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x sugar, or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ysaccharid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made of three or more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"/>
          <p:cNvPicPr/>
          <p:nvPr/>
        </p:nvPicPr>
        <p:blipFill>
          <a:blip r:embed="rId2"/>
          <a:stretch/>
        </p:blipFill>
        <p:spPr>
          <a:xfrm>
            <a:off x="0" y="3124080"/>
            <a:ext cx="5043600" cy="3733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"/>
          <p:cNvPicPr/>
          <p:nvPr/>
        </p:nvPicPr>
        <p:blipFill>
          <a:blip r:embed="rId3"/>
          <a:stretch/>
        </p:blipFill>
        <p:spPr>
          <a:xfrm>
            <a:off x="5769000" y="3360600"/>
            <a:ext cx="33685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organic compounds composed mainly of________, ______, _______, and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have many functions includ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uctural, defensive, hormones, and catalytic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skin, fingernails, lactase, hair,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2046240" y="4560840"/>
            <a:ext cx="2917800" cy="1879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3"/>
          <a:stretch/>
        </p:blipFill>
        <p:spPr>
          <a:xfrm>
            <a:off x="5105520" y="4419720"/>
            <a:ext cx="2114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re made up of monomers called__________ _________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quence of amino acids determines a protein’s shape and function, like the words in a sentence (change the word, change the meanin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b is a big c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b is a bog c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2-09T12:56:55Z</dcterms:modified>
  <cp:revision>771</cp:revision>
  <dc:subject/>
  <dc:title>No Slide Title</dc:title>
</cp:coreProperties>
</file>